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990099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81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How to Give Tal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746280" y="2244600"/>
            <a:ext cx="7635960" cy="42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7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G. Hopk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Physiology and Physical Education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University of Otago</a:t>
            </a:r>
            <a:br>
              <a:rPr sz="2800"/>
            </a:br>
            <a:r>
              <a:rPr b="1" lang="en-US" sz="2800" spc="-1" strike="noStrike">
                <a:solidFill>
                  <a:srgbClr val="00ff99"/>
                </a:solidFill>
                <a:latin typeface="Times New Roman"/>
                <a:ea typeface="Times New Roman"/>
              </a:rPr>
              <a:t>Dunedin, New Zea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6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ill@deepsouth.co.n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© 1996 W.G. Hopkins. Copying is permitted for individual nonprofit educational use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04920" y="2089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5335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2281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trol the light pointer.  Use both hands to limit sh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use the blackboard or whiteboard during the 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long intervals between slides, put the lights on, and turn off the projector or have a black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4520" y="20383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6858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Using Hardwar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2468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wo projectors are for exper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different media in series, not in parall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sure a video is ready to go with the touch of ONE but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4520" y="2190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Question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the most of it - you usually get helpful sugg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repare answers for some questions.  Use a stooge to ask the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extra slides re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thankful and polite - employers and reviewers may be in the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4520" y="198108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388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25600" y="1758960"/>
            <a:ext cx="8204040" cy="53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35 mm or PowerPoint at conferenc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ke a backup copy of PowerPoint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OHP transparencies only for local seminars and last-minute ideas or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ink si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BIG standard fo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un a spelling che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irrelevant slides of athle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4520" y="1569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Sport vs science jok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95200" y="457200"/>
            <a:ext cx="86853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79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460520"/>
            <a:ext cx="7932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itle:  include collaborators and fund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xt slides:  e.g. background, research question, methods, results, summ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waste a slide on the above l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relevant joke slide is 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ow many slides?  Count on about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1-2 minutes per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duplicate slides rather than back track to a previous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2520" y="542880"/>
            <a:ext cx="82947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ables and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62120" y="1852560"/>
            <a:ext cx="7772400" cy="43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copy them 1:1 from a paper.  Enlarge or redr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a ti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dig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clude SDs, not S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</a:t>
            </a:r>
            <a:r>
              <a:rPr b="1" lang="en-US" sz="36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nd  </a:t>
            </a:r>
            <a:r>
              <a:rPr b="1" lang="en-US" sz="4000" spc="-1" strike="noStrike" baseline="-15000">
                <a:solidFill>
                  <a:srgbClr val="ffffff"/>
                </a:solidFill>
                <a:latin typeface="Book Antiqua"/>
                <a:ea typeface="Book Antiqua"/>
              </a:rPr>
              <a:t>* * 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ather than 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est statistics (</a:t>
            </a:r>
            <a:r>
              <a:rPr b="0" i="1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, F,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c</a:t>
            </a:r>
            <a:r>
              <a:rPr b="0" i="1" lang="en-US" sz="32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4520" y="16765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57160" y="609480"/>
            <a:ext cx="7391520" cy="577224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57160" y="53352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87480" y="1622520"/>
            <a:ext cx="710892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sprint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99ff"/>
                </a:solidFill>
                <a:latin typeface="Arial"/>
                <a:ea typeface="Arial"/>
              </a:rPr>
              <a:t>end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2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6 ± 5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2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1 ± 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6 ± 7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3 ± 6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i="1" lang="en-US" sz="2800" spc="-1" strike="noStrike">
                <a:solidFill>
                  <a:srgbClr val="99ccff"/>
                </a:solidFill>
                <a:latin typeface="Arial"/>
                <a:ea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age (y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9 ± 4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25 ± 4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height (cm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80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177 ± 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weight (kg)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73 ± 8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  <a:ea typeface="Arial"/>
              </a:rPr>
              <a:t>67 ± 8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r" pos="2473200"/>
                <a:tab algn="ctr" pos="3902040"/>
                <a:tab algn="ctr" pos="60087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 = 96-231.  Data are mean ± S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57160" y="21718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57160" y="585792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09800" y="609480"/>
            <a:ext cx="706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stics of athletes in sprint and endurance 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22400" y="938160"/>
            <a:ext cx="7061040" cy="4243320"/>
          </a:xfrm>
          <a:prstGeom prst="rect">
            <a:avLst/>
          </a:prstGeom>
          <a:solidFill>
            <a:srgbClr val="66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8080" y="1622520"/>
            <a:ext cx="6375600" cy="1813320"/>
          </a:xfrm>
          <a:custGeom>
            <a:avLst/>
            <a:gdLst/>
            <a:ahLst/>
            <a:rect l="0" t="0" r="r" b="b"/>
            <a:pathLst>
              <a:path w="17710" h="5037">
                <a:moveTo>
                  <a:pt x="0" y="0"/>
                </a:moveTo>
                <a:lnTo>
                  <a:pt x="17710" y="0"/>
                </a:lnTo>
                <a:lnTo>
                  <a:pt x="17710" y="5037"/>
                </a:lnTo>
                <a:lnTo>
                  <a:pt x="0" y="50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503360" y="1622520"/>
            <a:ext cx="5705640" cy="1825560"/>
            <a:chOff x="1503360" y="1622520"/>
            <a:chExt cx="5705640" cy="1825560"/>
          </a:xfrm>
        </p:grpSpPr>
        <p:sp>
          <p:nvSpPr>
            <p:cNvPr id="96" name=""/>
            <p:cNvSpPr/>
            <p:nvPr/>
          </p:nvSpPr>
          <p:spPr>
            <a:xfrm>
              <a:off x="1503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3288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3992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9513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7504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8648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756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09000" y="1622520"/>
              <a:ext cx="0" cy="182556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 txBox="1"/>
          <p:nvPr/>
        </p:nvSpPr>
        <p:spPr>
          <a:xfrm>
            <a:off x="2413080" y="2557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741840" y="2557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80200" y="255744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639800" y="25574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621400" y="25574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27920" y="255744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142040" y="164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153120" y="164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723000" y="164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540160" y="164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760" y="164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773680" y="164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394320" y="164448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256520" y="19494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666880" y="19494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95840" y="19494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911920" y="19494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521400" y="19494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358040" y="22525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63840" y="22525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768760" y="22525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797360" y="22525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987880" y="22525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622920" y="22525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22400" y="444600"/>
            <a:ext cx="7061040" cy="1001880"/>
          </a:xfrm>
          <a:prstGeom prst="rect">
            <a:avLst/>
          </a:prstGeom>
          <a:solidFill>
            <a:srgbClr val="9900cc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44680" y="2979720"/>
            <a:ext cx="4037400" cy="341640"/>
          </a:xfrm>
          <a:custGeom>
            <a:avLst/>
            <a:gdLst/>
            <a:ahLst/>
            <a:rect l="0" t="0" r="r" b="b"/>
            <a:pathLst>
              <a:path w="11215" h="949">
                <a:moveTo>
                  <a:pt x="0" y="0"/>
                </a:moveTo>
                <a:lnTo>
                  <a:pt x="11215" y="0"/>
                </a:lnTo>
                <a:lnTo>
                  <a:pt x="11215" y="949"/>
                </a:lnTo>
                <a:lnTo>
                  <a:pt x="0" y="949"/>
                </a:lnTo>
                <a:lnTo>
                  <a:pt x="0" y="0"/>
                </a:lnTo>
                <a:close/>
              </a:path>
            </a:pathLst>
          </a:custGeom>
          <a:solidFill>
            <a:srgbClr val="66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693960" y="2924280"/>
            <a:ext cx="140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378080" y="3498840"/>
            <a:ext cx="6387840" cy="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59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288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992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13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7504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648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9756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09000" y="3486240"/>
            <a:ext cx="0" cy="127080"/>
          </a:xfrm>
          <a:prstGeom prst="line">
            <a:avLst/>
          </a:prstGeom>
          <a:ln w="2556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36680" y="36082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0718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88288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69396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180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2908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4052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951600" y="3608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43200" y="4040280"/>
            <a:ext cx="153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m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22400" y="4575240"/>
            <a:ext cx="7061040" cy="18129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324080" y="4635360"/>
            <a:ext cx="438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557360" y="4635360"/>
            <a:ext cx="27255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map read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24080" y="49528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544760" y="4952880"/>
            <a:ext cx="328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Peripheral vision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324080" y="526896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544760" y="5268960"/>
            <a:ext cx="3436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- Stroop color-wor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324080" y="5586480"/>
            <a:ext cx="404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38280" y="5586480"/>
            <a:ext cx="306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blood lactate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324080" y="5902200"/>
            <a:ext cx="420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461960" y="194940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386000" y="179712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563840" y="5902200"/>
            <a:ext cx="3317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96a1"/>
                </a:solidFill>
                <a:latin typeface="Arial"/>
                <a:ea typeface="Arial"/>
              </a:rPr>
              <a:t>- oxygen uptake 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181160" y="552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otocol for study of cognitive function in orient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311120" y="1644480"/>
            <a:ext cx="387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85800" y="304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51272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graphs in preference to 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the right kind of graph for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abel individual lines or bars rather than use a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a bare minimum of ticks and numbers on ax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Use LARGE symbols on plotted points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Vary symbol shape for the colorblind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49400" y="5846760"/>
            <a:ext cx="6777000" cy="628560"/>
            <a:chOff x="1049400" y="5846760"/>
            <a:chExt cx="6777000" cy="628560"/>
          </a:xfrm>
        </p:grpSpPr>
        <p:sp>
          <p:nvSpPr>
            <p:cNvPr id="167" name=""/>
            <p:cNvSpPr txBox="1"/>
            <p:nvPr/>
          </p:nvSpPr>
          <p:spPr>
            <a:xfrm>
              <a:off x="1049400" y="5846760"/>
              <a:ext cx="5460840" cy="62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10000"/>
                </a:lnSpc>
                <a:spcBef>
                  <a:spcPts val="479"/>
                </a:spcBef>
              </a:pPr>
              <a:r>
                <a:rPr b="0" lang="en-US" sz="3200" spc="-1" strike="noStrike">
                  <a:solidFill>
                    <a:srgbClr val="ffffff"/>
                  </a:solidFill>
                  <a:latin typeface="Book Antiqua"/>
                  <a:ea typeface="Book Antiqua"/>
                </a:rPr>
                <a:t>This:                            Not this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189160" y="6067440"/>
              <a:ext cx="208080" cy="21096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4148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10000" y="6067440"/>
              <a:ext cx="209520" cy="210960"/>
            </a:xfrm>
            <a:prstGeom prst="rect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49520" y="6067440"/>
              <a:ext cx="209520" cy="21096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1840" y="6060960"/>
              <a:ext cx="216360" cy="217800"/>
            </a:xfrm>
            <a:custGeom>
              <a:avLst/>
              <a:gdLst/>
              <a:ahLst/>
              <a:rect l="0" t="0" r="r" b="b"/>
              <a:pathLst>
                <a:path w="601" h="605">
                  <a:moveTo>
                    <a:pt x="0" y="605"/>
                  </a:moveTo>
                  <a:lnTo>
                    <a:pt x="601" y="605"/>
                  </a:lnTo>
                  <a:lnTo>
                    <a:pt x="300" y="0"/>
                  </a:lnTo>
                  <a:lnTo>
                    <a:pt x="0" y="605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54520" y="6067440"/>
              <a:ext cx="209520" cy="2109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581880" y="6141960"/>
              <a:ext cx="109440" cy="109440"/>
            </a:xfrm>
            <a:prstGeom prst="ellipse">
              <a:avLst/>
            </a:prstGeom>
            <a:solidFill>
              <a:srgbClr val="ff6699"/>
            </a:solidFill>
            <a:ln w="12600">
              <a:solidFill>
                <a:srgbClr val="ff66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029360" y="6141960"/>
              <a:ext cx="109440" cy="1094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75400" y="6141960"/>
              <a:ext cx="111240" cy="109440"/>
            </a:xfrm>
            <a:prstGeom prst="ellipse">
              <a:avLst/>
            </a:prstGeom>
            <a:solidFill>
              <a:srgbClr val="00ff99"/>
            </a:solidFill>
            <a:ln w="12600">
              <a:solidFill>
                <a:srgbClr val="00ff9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21640" y="61419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26912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afd00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16960" y="6141960"/>
              <a:ext cx="109440" cy="10944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ff99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344520" y="1371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533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05120"/>
            <a:ext cx="7772400" cy="460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iving a good talk is an essential skill for researchers and instruc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want feedback on your data or ideas, so put them across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onferences are fun - if you give your talk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t’s all a game.  Learn the rules and you’ll enjoy it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6686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62120" y="304920"/>
            <a:ext cx="7543800" cy="6324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304920"/>
            <a:ext cx="754380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838080" y="41904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ffect of drug or placebo on maximum oxygen uptake during 16 week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4680" y="39852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849240" y="618480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664160" y="1760400"/>
            <a:ext cx="2876760" cy="3586680"/>
          </a:xfrm>
          <a:custGeom>
            <a:avLst/>
            <a:gdLst/>
            <a:ahLst/>
            <a:rect l="0" t="0" r="r" b="b"/>
            <a:pathLst>
              <a:path w="7991" h="9963">
                <a:moveTo>
                  <a:pt x="0" y="0"/>
                </a:moveTo>
                <a:lnTo>
                  <a:pt x="7991" y="0"/>
                </a:lnTo>
                <a:lnTo>
                  <a:pt x="7991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51006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27440" y="1760400"/>
            <a:ext cx="951120" cy="3586680"/>
          </a:xfrm>
          <a:custGeom>
            <a:avLst/>
            <a:gdLst/>
            <a:ahLst/>
            <a:rect l="0" t="0" r="r" b="b"/>
            <a:pathLst>
              <a:path w="2642" h="9963">
                <a:moveTo>
                  <a:pt x="0" y="0"/>
                </a:moveTo>
                <a:lnTo>
                  <a:pt x="2642" y="0"/>
                </a:lnTo>
                <a:lnTo>
                  <a:pt x="2642" y="9963"/>
                </a:lnTo>
                <a:lnTo>
                  <a:pt x="0" y="9963"/>
                </a:lnTo>
                <a:lnTo>
                  <a:pt x="0" y="0"/>
                </a:lnTo>
                <a:close/>
              </a:path>
            </a:pathLst>
          </a:custGeom>
          <a:solidFill>
            <a:srgbClr val="0000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41840" y="4259160"/>
            <a:ext cx="3812040" cy="433800"/>
          </a:xfrm>
          <a:custGeom>
            <a:avLst/>
            <a:gdLst/>
            <a:ahLst/>
            <a:rect l="0" t="0" r="r" b="b"/>
            <a:pathLst>
              <a:path fill="none" w="10589" h="1205">
                <a:moveTo>
                  <a:pt x="0" y="1205"/>
                </a:moveTo>
                <a:lnTo>
                  <a:pt x="0" y="1205"/>
                </a:lnTo>
                <a:lnTo>
                  <a:pt x="2597" y="803"/>
                </a:lnTo>
                <a:lnTo>
                  <a:pt x="2597" y="803"/>
                </a:lnTo>
                <a:lnTo>
                  <a:pt x="5275" y="837"/>
                </a:lnTo>
                <a:lnTo>
                  <a:pt x="5275" y="837"/>
                </a:lnTo>
                <a:lnTo>
                  <a:pt x="7952" y="877"/>
                </a:lnTo>
                <a:lnTo>
                  <a:pt x="7952" y="877"/>
                </a:lnTo>
                <a:lnTo>
                  <a:pt x="10589" y="0"/>
                </a:lnTo>
                <a:lnTo>
                  <a:pt x="10589" y="0"/>
                </a:lnTo>
              </a:path>
            </a:pathLst>
          </a:custGeom>
          <a:ln w="12600">
            <a:solidFill>
              <a:srgbClr val="0088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9"/>
                </a:moveTo>
                <a:lnTo>
                  <a:pt x="0" y="5309"/>
                </a:lnTo>
                <a:lnTo>
                  <a:pt x="2636" y="6069"/>
                </a:lnTo>
                <a:lnTo>
                  <a:pt x="2636" y="6069"/>
                </a:lnTo>
                <a:lnTo>
                  <a:pt x="5273" y="3961"/>
                </a:lnTo>
                <a:lnTo>
                  <a:pt x="5273" y="3961"/>
                </a:lnTo>
                <a:lnTo>
                  <a:pt x="7950" y="0"/>
                </a:lnTo>
                <a:lnTo>
                  <a:pt x="7950" y="0"/>
                </a:lnTo>
                <a:lnTo>
                  <a:pt x="10553" y="1492"/>
                </a:lnTo>
                <a:lnTo>
                  <a:pt x="10553" y="1492"/>
                </a:lnTo>
              </a:path>
            </a:pathLst>
          </a:custGeom>
          <a:ln w="12600">
            <a:solidFill>
              <a:srgbClr val="dd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714840" y="5530680"/>
            <a:ext cx="3825720" cy="128880"/>
            <a:chOff x="3714840" y="5530680"/>
            <a:chExt cx="3825720" cy="128880"/>
          </a:xfrm>
        </p:grpSpPr>
        <p:sp>
          <p:nvSpPr>
            <p:cNvPr id="191" name=""/>
            <p:cNvSpPr/>
            <p:nvPr/>
          </p:nvSpPr>
          <p:spPr>
            <a:xfrm>
              <a:off x="3714840" y="5530680"/>
              <a:ext cx="38131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405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786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2932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6416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14840" y="5530680"/>
              <a:ext cx="0" cy="1288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 txBox="1"/>
          <p:nvPr/>
        </p:nvSpPr>
        <p:spPr>
          <a:xfrm>
            <a:off x="5457960" y="258768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6699"/>
                </a:solidFill>
                <a:latin typeface="Arial"/>
                <a:ea typeface="Arial"/>
              </a:rPr>
              <a:t>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927760" y="4675320"/>
            <a:ext cx="1336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ff99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386400" y="350028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342200" y="3481560"/>
            <a:ext cx="376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9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679920" y="3917880"/>
            <a:ext cx="3900240" cy="1309680"/>
            <a:chOff x="3679920" y="3917880"/>
            <a:chExt cx="3900240" cy="1309680"/>
          </a:xfrm>
        </p:grpSpPr>
        <p:grpSp>
          <p:nvGrpSpPr>
            <p:cNvPr id="202" name=""/>
            <p:cNvGrpSpPr/>
            <p:nvPr/>
          </p:nvGrpSpPr>
          <p:grpSpPr>
            <a:xfrm>
              <a:off x="3679920" y="4730760"/>
              <a:ext cx="117360" cy="496800"/>
              <a:chOff x="3679920" y="4730760"/>
              <a:chExt cx="117360" cy="496800"/>
            </a:xfrm>
          </p:grpSpPr>
          <p:sp>
            <p:nvSpPr>
              <p:cNvPr id="203" name=""/>
              <p:cNvSpPr/>
              <p:nvPr/>
            </p:nvSpPr>
            <p:spPr>
              <a:xfrm>
                <a:off x="3745080" y="473076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3679920" y="52275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3741840" y="4259160"/>
              <a:ext cx="3812040" cy="433800"/>
            </a:xfrm>
            <a:custGeom>
              <a:avLst/>
              <a:gdLst/>
              <a:ahLst/>
              <a:rect l="0" t="0" r="r" b="b"/>
              <a:pathLst>
                <a:path fill="none" w="10589" h="1205">
                  <a:moveTo>
                    <a:pt x="0" y="1205"/>
                  </a:moveTo>
                  <a:lnTo>
                    <a:pt x="2597" y="803"/>
                  </a:lnTo>
                  <a:lnTo>
                    <a:pt x="5275" y="837"/>
                  </a:lnTo>
                  <a:lnTo>
                    <a:pt x="7952" y="877"/>
                  </a:lnTo>
                  <a:lnTo>
                    <a:pt x="10589" y="0"/>
                  </a:lnTo>
                </a:path>
              </a:pathLst>
            </a:custGeom>
            <a:ln w="25560">
              <a:solidFill>
                <a:srgbClr val="00ff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524640" y="3917880"/>
              <a:ext cx="119160" cy="641520"/>
              <a:chOff x="6524640" y="3917880"/>
              <a:chExt cx="119160" cy="641520"/>
            </a:xfrm>
          </p:grpSpPr>
          <p:sp>
            <p:nvSpPr>
              <p:cNvPr id="207" name=""/>
              <p:cNvSpPr/>
              <p:nvPr/>
            </p:nvSpPr>
            <p:spPr>
              <a:xfrm>
                <a:off x="6589800" y="3917880"/>
                <a:ext cx="0" cy="64152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524640" y="3917880"/>
                <a:ext cx="1191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4599000" y="4651200"/>
              <a:ext cx="117360" cy="498600"/>
              <a:chOff x="4599000" y="4651200"/>
              <a:chExt cx="117360" cy="498600"/>
            </a:xfrm>
          </p:grpSpPr>
          <p:sp>
            <p:nvSpPr>
              <p:cNvPr id="210" name=""/>
              <p:cNvSpPr/>
              <p:nvPr/>
            </p:nvSpPr>
            <p:spPr>
              <a:xfrm>
                <a:off x="4664160" y="4651200"/>
                <a:ext cx="0" cy="48420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4599000" y="514980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564160" y="4559400"/>
              <a:ext cx="115920" cy="498240"/>
              <a:chOff x="5564160" y="4559400"/>
              <a:chExt cx="115920" cy="498240"/>
            </a:xfrm>
          </p:grpSpPr>
          <p:sp>
            <p:nvSpPr>
              <p:cNvPr id="213" name=""/>
              <p:cNvSpPr/>
              <p:nvPr/>
            </p:nvSpPr>
            <p:spPr>
              <a:xfrm>
                <a:off x="5629320" y="455940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5564160" y="5057640"/>
                <a:ext cx="11592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7462800" y="4245120"/>
              <a:ext cx="117360" cy="500040"/>
              <a:chOff x="7462800" y="4245120"/>
              <a:chExt cx="117360" cy="500040"/>
            </a:xfrm>
          </p:grpSpPr>
          <p:sp>
            <p:nvSpPr>
              <p:cNvPr id="216" name=""/>
              <p:cNvSpPr/>
              <p:nvPr/>
            </p:nvSpPr>
            <p:spPr>
              <a:xfrm>
                <a:off x="7527960" y="4245120"/>
                <a:ext cx="0" cy="48564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7462800" y="4745160"/>
                <a:ext cx="117360" cy="0"/>
              </a:xfrm>
              <a:prstGeom prst="line">
                <a:avLst/>
              </a:prstGeom>
              <a:ln w="25560">
                <a:solidFill>
                  <a:srgbClr val="00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8" name=""/>
          <p:cNvGrpSpPr/>
          <p:nvPr/>
        </p:nvGrpSpPr>
        <p:grpSpPr>
          <a:xfrm>
            <a:off x="3679920" y="3722760"/>
            <a:ext cx="117360" cy="642960"/>
            <a:chOff x="3679920" y="3722760"/>
            <a:chExt cx="117360" cy="642960"/>
          </a:xfrm>
        </p:grpSpPr>
        <p:sp>
          <p:nvSpPr>
            <p:cNvPr id="219" name=""/>
            <p:cNvSpPr/>
            <p:nvPr/>
          </p:nvSpPr>
          <p:spPr>
            <a:xfrm>
              <a:off x="3745080" y="3722760"/>
              <a:ext cx="0" cy="6429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9920" y="37227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741840" y="2467080"/>
            <a:ext cx="3799080" cy="2184840"/>
          </a:xfrm>
          <a:custGeom>
            <a:avLst/>
            <a:gdLst/>
            <a:ahLst/>
            <a:rect l="0" t="0" r="r" b="b"/>
            <a:pathLst>
              <a:path fill="none" w="10553" h="6069">
                <a:moveTo>
                  <a:pt x="0" y="5309"/>
                </a:moveTo>
                <a:lnTo>
                  <a:pt x="2636" y="6069"/>
                </a:lnTo>
                <a:lnTo>
                  <a:pt x="5273" y="3961"/>
                </a:lnTo>
                <a:lnTo>
                  <a:pt x="7950" y="0"/>
                </a:lnTo>
                <a:lnTo>
                  <a:pt x="10553" y="1492"/>
                </a:lnTo>
              </a:path>
            </a:pathLst>
          </a:custGeom>
          <a:ln w="25560">
            <a:solidFill>
              <a:srgbClr val="ff6699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513480" y="2467080"/>
            <a:ext cx="117360" cy="1035000"/>
            <a:chOff x="6513480" y="2467080"/>
            <a:chExt cx="117360" cy="1035000"/>
          </a:xfrm>
        </p:grpSpPr>
        <p:sp>
          <p:nvSpPr>
            <p:cNvPr id="223" name=""/>
            <p:cNvSpPr/>
            <p:nvPr/>
          </p:nvSpPr>
          <p:spPr>
            <a:xfrm>
              <a:off x="6578640" y="2467080"/>
              <a:ext cx="0" cy="1019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513480" y="35020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4599000" y="3892680"/>
            <a:ext cx="117360" cy="641160"/>
            <a:chOff x="4599000" y="3892680"/>
            <a:chExt cx="117360" cy="641160"/>
          </a:xfrm>
        </p:grpSpPr>
        <p:sp>
          <p:nvSpPr>
            <p:cNvPr id="226" name=""/>
            <p:cNvSpPr/>
            <p:nvPr/>
          </p:nvSpPr>
          <p:spPr>
            <a:xfrm>
              <a:off x="4664160" y="3892680"/>
              <a:ext cx="0" cy="64116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99000" y="389268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7462800" y="2270160"/>
            <a:ext cx="117360" cy="681120"/>
            <a:chOff x="7462800" y="2270160"/>
            <a:chExt cx="117360" cy="681120"/>
          </a:xfrm>
        </p:grpSpPr>
        <p:sp>
          <p:nvSpPr>
            <p:cNvPr id="229" name=""/>
            <p:cNvSpPr/>
            <p:nvPr/>
          </p:nvSpPr>
          <p:spPr>
            <a:xfrm>
              <a:off x="7527960" y="227016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62800" y="2270160"/>
              <a:ext cx="1173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 txBox="1"/>
          <p:nvPr/>
        </p:nvSpPr>
        <p:spPr>
          <a:xfrm>
            <a:off x="3749760" y="1758960"/>
            <a:ext cx="94608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16600" y="1755720"/>
            <a:ext cx="23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rug or 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298680" y="1760400"/>
            <a:ext cx="130320" cy="3586320"/>
            <a:chOff x="3298680" y="1760400"/>
            <a:chExt cx="130320" cy="3586320"/>
          </a:xfrm>
        </p:grpSpPr>
        <p:sp>
          <p:nvSpPr>
            <p:cNvPr id="234" name=""/>
            <p:cNvSpPr/>
            <p:nvPr/>
          </p:nvSpPr>
          <p:spPr>
            <a:xfrm flipH="1">
              <a:off x="3298680" y="534672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3298680" y="444168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298680" y="355284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3298680" y="26496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298680" y="1760400"/>
              <a:ext cx="1159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29000" y="1760400"/>
              <a:ext cx="0" cy="3586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 txBox="1"/>
          <p:nvPr/>
        </p:nvSpPr>
        <p:spPr>
          <a:xfrm>
            <a:off x="2725560" y="157176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725560" y="336384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725560" y="515160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5431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372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443560" y="5692680"/>
            <a:ext cx="3538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29604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7246800" y="56926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0840" y="6064200"/>
            <a:ext cx="19112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ime (wee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17680" y="2760840"/>
            <a:ext cx="264960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max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(ml.min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.kg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48240" y="460044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33920" y="44481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496200" y="445788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429680" y="4152960"/>
            <a:ext cx="181440" cy="181440"/>
          </a:xfrm>
          <a:custGeom>
            <a:avLst/>
            <a:gdLst/>
            <a:ahLst/>
            <a:rect l="0" t="0" r="r" b="b"/>
            <a:pathLst>
              <a:path w="504" h="504">
                <a:moveTo>
                  <a:pt x="0" y="504"/>
                </a:moveTo>
                <a:lnTo>
                  <a:pt x="504" y="504"/>
                </a:lnTo>
                <a:lnTo>
                  <a:pt x="252" y="0"/>
                </a:lnTo>
                <a:lnTo>
                  <a:pt x="0" y="504"/>
                </a:lnTo>
                <a:close/>
              </a:path>
            </a:pathLst>
          </a:cu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573880" y="3160800"/>
            <a:ext cx="115560" cy="681120"/>
            <a:chOff x="5573880" y="3160800"/>
            <a:chExt cx="115560" cy="681120"/>
          </a:xfrm>
        </p:grpSpPr>
        <p:sp>
          <p:nvSpPr>
            <p:cNvPr id="256" name=""/>
            <p:cNvSpPr/>
            <p:nvPr/>
          </p:nvSpPr>
          <p:spPr>
            <a:xfrm>
              <a:off x="5573880" y="3160800"/>
              <a:ext cx="115560" cy="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38680" y="3160800"/>
              <a:ext cx="0" cy="681120"/>
            </a:xfrm>
            <a:prstGeom prst="line">
              <a:avLst/>
            </a:prstGeom>
            <a:ln w="2556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3637080" y="2347920"/>
            <a:ext cx="3993840" cy="2409840"/>
            <a:chOff x="3637080" y="2347920"/>
            <a:chExt cx="3993840" cy="2409840"/>
          </a:xfrm>
        </p:grpSpPr>
        <p:sp>
          <p:nvSpPr>
            <p:cNvPr id="259" name=""/>
            <p:cNvSpPr/>
            <p:nvPr/>
          </p:nvSpPr>
          <p:spPr>
            <a:xfrm>
              <a:off x="4573440" y="4548240"/>
              <a:ext cx="19512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537160" y="37879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35800" y="2909880"/>
              <a:ext cx="19512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37080" y="4272120"/>
              <a:ext cx="193680" cy="21096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486480" y="2347920"/>
              <a:ext cx="193680" cy="209520"/>
            </a:xfrm>
            <a:prstGeom prst="ellipse">
              <a:avLst/>
            </a:prstGeom>
            <a:solidFill>
              <a:srgbClr val="ff6699"/>
            </a:solidFill>
            <a:ln w="25560">
              <a:solidFill>
                <a:srgbClr val="ff6699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38080" y="457200"/>
            <a:ext cx="7391520" cy="6019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457200"/>
            <a:ext cx="7391520" cy="1066680"/>
          </a:xfrm>
          <a:prstGeom prst="rect">
            <a:avLst/>
          </a:prstGeom>
          <a:solidFill>
            <a:srgbClr val="6d009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30240" y="533520"/>
            <a:ext cx="7223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action time of novice and elite athletes in three phases of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773520" y="5692680"/>
            <a:ext cx="2622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action time (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46440" y="5291280"/>
            <a:ext cx="523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108840" y="2631960"/>
            <a:ext cx="960120" cy="157320"/>
            <a:chOff x="6108840" y="2631960"/>
            <a:chExt cx="960120" cy="157320"/>
          </a:xfrm>
        </p:grpSpPr>
        <p:sp>
          <p:nvSpPr>
            <p:cNvPr id="270" name=""/>
            <p:cNvSpPr/>
            <p:nvPr/>
          </p:nvSpPr>
          <p:spPr>
            <a:xfrm>
              <a:off x="6108840" y="2709720"/>
              <a:ext cx="96012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68960" y="2631960"/>
              <a:ext cx="0" cy="15732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982960" y="2543040"/>
            <a:ext cx="313704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724040" y="25131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377040" y="3060720"/>
            <a:ext cx="1049400" cy="157320"/>
            <a:chOff x="6377040" y="3060720"/>
            <a:chExt cx="1049400" cy="157320"/>
          </a:xfrm>
        </p:grpSpPr>
        <p:sp>
          <p:nvSpPr>
            <p:cNvPr id="275" name=""/>
            <p:cNvSpPr/>
            <p:nvPr/>
          </p:nvSpPr>
          <p:spPr>
            <a:xfrm>
              <a:off x="6377040" y="3139920"/>
              <a:ext cx="104940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26440" y="306072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982960" y="2971800"/>
            <a:ext cx="3416400" cy="3477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095560" y="295272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668840" y="4824360"/>
            <a:ext cx="569880" cy="157320"/>
            <a:chOff x="4668840" y="4824360"/>
            <a:chExt cx="569880" cy="157320"/>
          </a:xfrm>
        </p:grpSpPr>
        <p:sp>
          <p:nvSpPr>
            <p:cNvPr id="280" name=""/>
            <p:cNvSpPr/>
            <p:nvPr/>
          </p:nvSpPr>
          <p:spPr>
            <a:xfrm>
              <a:off x="4668840" y="4903920"/>
              <a:ext cx="569880" cy="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38720" y="4824360"/>
              <a:ext cx="0" cy="157320"/>
            </a:xfrm>
            <a:prstGeom prst="line">
              <a:avLst/>
            </a:prstGeom>
            <a:ln w="25560">
              <a:solidFill>
                <a:srgbClr val="f95ab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 txBox="1"/>
          <p:nvPr/>
        </p:nvSpPr>
        <p:spPr>
          <a:xfrm>
            <a:off x="2095560" y="4694400"/>
            <a:ext cx="87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t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982960" y="4724280"/>
            <a:ext cx="1708200" cy="345960"/>
          </a:xfrm>
          <a:prstGeom prst="rect">
            <a:avLst/>
          </a:prstGeom>
          <a:solidFill>
            <a:srgbClr val="f95ab7"/>
          </a:solidFill>
          <a:ln w="12600">
            <a:solidFill>
              <a:srgbClr val="f95ab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729400" y="2201760"/>
            <a:ext cx="971280" cy="157320"/>
            <a:chOff x="5729400" y="2201760"/>
            <a:chExt cx="971280" cy="157320"/>
          </a:xfrm>
        </p:grpSpPr>
        <p:sp>
          <p:nvSpPr>
            <p:cNvPr id="285" name=""/>
            <p:cNvSpPr/>
            <p:nvPr/>
          </p:nvSpPr>
          <p:spPr>
            <a:xfrm>
              <a:off x="5729400" y="2281320"/>
              <a:ext cx="9712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00680" y="2201760"/>
              <a:ext cx="0" cy="15732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 txBox="1"/>
          <p:nvPr/>
        </p:nvSpPr>
        <p:spPr>
          <a:xfrm>
            <a:off x="1276200" y="210168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2960" y="2112840"/>
            <a:ext cx="281304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876840" y="3946680"/>
            <a:ext cx="568080" cy="156960"/>
            <a:chOff x="3876840" y="3946680"/>
            <a:chExt cx="568080" cy="156960"/>
          </a:xfrm>
        </p:grpSpPr>
        <p:sp>
          <p:nvSpPr>
            <p:cNvPr id="290" name=""/>
            <p:cNvSpPr/>
            <p:nvPr/>
          </p:nvSpPr>
          <p:spPr>
            <a:xfrm>
              <a:off x="3876840" y="4025880"/>
              <a:ext cx="568080" cy="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44920" y="3946680"/>
              <a:ext cx="0" cy="156960"/>
            </a:xfrm>
            <a:prstGeom prst="line">
              <a:avLst/>
            </a:prstGeom>
            <a:ln w="25560">
              <a:solidFill>
                <a:srgbClr val="618f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 txBox="1"/>
          <p:nvPr/>
        </p:nvSpPr>
        <p:spPr>
          <a:xfrm>
            <a:off x="1276200" y="3816360"/>
            <a:ext cx="1709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pre-sea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2960" y="3857760"/>
            <a:ext cx="893880" cy="345960"/>
          </a:xfrm>
          <a:prstGeom prst="rect">
            <a:avLst/>
          </a:prstGeom>
          <a:solidFill>
            <a:srgbClr val="618ffd"/>
          </a:solidFill>
          <a:ln w="12600">
            <a:solidFill>
              <a:srgbClr val="618f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675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7294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2436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764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5186520"/>
            <a:ext cx="0" cy="9972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760840" y="5186520"/>
            <a:ext cx="4543200" cy="0"/>
          </a:xfrm>
          <a:prstGeom prst="line">
            <a:avLst/>
          </a:prstGeom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8308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4989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4133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329520" y="529128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465800" y="3797280"/>
            <a:ext cx="392040" cy="7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200" spc="-1" strike="noStrike">
                <a:solidFill>
                  <a:srgbClr val="fafd00"/>
                </a:solidFill>
                <a:latin typeface="Arial"/>
                <a:ea typeface="Arial"/>
              </a:rPr>
              <a:t>*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527280" y="3370320"/>
            <a:ext cx="318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  <a:ea typeface="Arial"/>
              </a:rPr>
              <a:t>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2968560" y="1736640"/>
            <a:ext cx="9558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nov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968560" y="3481560"/>
            <a:ext cx="67320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100" spc="-1" strike="noStrike">
                <a:solidFill>
                  <a:srgbClr val="ffffff"/>
                </a:solidFill>
                <a:latin typeface="Arial"/>
                <a:ea typeface="Arial"/>
              </a:rPr>
              <a:t>eli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333520" y="404640"/>
            <a:ext cx="27612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836960" y="4376880"/>
            <a:ext cx="679680" cy="156960"/>
            <a:chOff x="4836960" y="4376880"/>
            <a:chExt cx="679680" cy="156960"/>
          </a:xfrm>
        </p:grpSpPr>
        <p:sp>
          <p:nvSpPr>
            <p:cNvPr id="310" name=""/>
            <p:cNvSpPr/>
            <p:nvPr/>
          </p:nvSpPr>
          <p:spPr>
            <a:xfrm>
              <a:off x="4836960" y="4454640"/>
              <a:ext cx="679680" cy="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516640" y="4376880"/>
              <a:ext cx="0" cy="156960"/>
            </a:xfrm>
            <a:prstGeom prst="line">
              <a:avLst/>
            </a:prstGeom>
            <a:ln w="25560">
              <a:solidFill>
                <a:srgbClr val="00ff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"/>
          <p:cNvSpPr txBox="1"/>
          <p:nvPr/>
        </p:nvSpPr>
        <p:spPr>
          <a:xfrm>
            <a:off x="1724040" y="424656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buil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982960" y="4287960"/>
            <a:ext cx="1865160" cy="345960"/>
          </a:xfrm>
          <a:prstGeom prst="rect">
            <a:avLst/>
          </a:prstGeom>
          <a:solidFill>
            <a:srgbClr val="00ff99"/>
          </a:solidFill>
          <a:ln w="12600">
            <a:solidFill>
              <a:srgbClr val="00ff9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939960" y="6054840"/>
            <a:ext cx="281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ata are means and S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For the Aud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207648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there o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snigger at foolish speak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annoy your neighb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your questions pithy, and don’t show off TOO mu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sk a simple question:  the answer will help other people underst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4520" y="180972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685800" y="3808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1992240"/>
            <a:ext cx="7772400" cy="479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hardware beforeh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eet the speakers and arrange a signal to let them know when time is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troduce yourself and the sessio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ame the speaker and read the ti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Eulogize the big sho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ay when questions can be ask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x any problems during the tal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44520" y="18288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326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39672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 -</a:t>
            </a:r>
            <a:br>
              <a:rPr sz="1800"/>
            </a:b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At 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85800" y="2046240"/>
            <a:ext cx="7772400" cy="522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arn speakers when time is nearly up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Lead the appla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nvite questions if time permits, or ask people to meet the speaker afterwar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Have a question ready in case no-one asks 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the session with thanks to the speakers and lead more appla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 Conclusion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obsessional!  Give it your best sh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Be creative - break the rules some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Will it help get the message acro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Yes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No: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  <a:ea typeface="Book Antiqua"/>
              </a:rPr>
              <a:t>Drop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4920" y="19605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2560" cy="68565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04920" y="612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Topics in This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08080" y="2031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 the Chair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5440" y="1778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8000" y="189000"/>
            <a:ext cx="8369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99cc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88880" y="1496880"/>
            <a:ext cx="82580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aint a big picture first, then zoom in on your little pix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Impress by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in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, not </a:t>
            </a: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per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You know more about the topic than most of the audience.  Get down to their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jargon, be colloquial, but be pre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 short relevant joke is great.  Anything else is tedi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Never apolog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4520" y="13017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858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[Down Under jok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9280" y="228600"/>
            <a:ext cx="7689960" cy="643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708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Prep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2232000"/>
            <a:ext cx="777240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hear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at your slides are in the right order and ori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out the controls for the lights and projec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Tap the microph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Check the poin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4520" y="200340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790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222264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Relax… Who will care in 100 years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out the title if the chair h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trivial opening remarks.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Get on wit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read the talk verbatim!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d lib it from notes of the main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4520" y="19940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681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3520" y="2076480"/>
            <a:ext cx="811548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Speak slowly, loudly, 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your mouth near the microph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Keep facing the aud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Make eye contact with as many people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verbal or postural mannerisms that distract or ann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4520" y="186696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49860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ffffff"/>
                </a:solidFill>
                <a:latin typeface="Book Antiqua"/>
                <a:ea typeface="Book Antiqua"/>
              </a:rPr>
              <a:t>The Talk Itself -</a:t>
            </a:r>
            <a:r>
              <a:rPr b="1" lang="en-US" sz="4400" spc="-1" strike="noStrike">
                <a:solidFill>
                  <a:srgbClr val="ffc5cf"/>
                </a:solidFill>
                <a:latin typeface="Book Antiqua"/>
                <a:ea typeface="Book Antiqua"/>
              </a:rPr>
              <a:t> </a:t>
            </a:r>
            <a:r>
              <a:rPr b="1" lang="en-US" sz="4400" spc="-1" strike="noStrike">
                <a:solidFill>
                  <a:srgbClr val="fafd00"/>
                </a:solidFill>
                <a:latin typeface="Book Antiqua"/>
                <a:ea typeface="Book Antiqua"/>
              </a:rPr>
              <a:t>Delivery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7280" y="1833480"/>
            <a:ext cx="8077320" cy="473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Avoid long quotes on a slide, and don’t read them out verbat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Point to detail on a slide as you expla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1" i="1" lang="en-US" sz="3200" spc="-1" strike="noStrike">
                <a:solidFill>
                  <a:srgbClr val="fafd00"/>
                </a:solidFill>
                <a:latin typeface="Book Antiqua"/>
                <a:ea typeface="Book Antiqua"/>
              </a:rPr>
              <a:t>Explain the axes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 of a grap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go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Don’t finish with “any questions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  <a:ea typeface="Book Antiqua"/>
              </a:rPr>
              <a:t>Finish with “thank you.”  Then flick up a black slide, especially with Power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4520" y="1657440"/>
            <a:ext cx="8381880" cy="0"/>
          </a:xfrm>
          <a:prstGeom prst="line">
            <a:avLst/>
          </a:prstGeom>
          <a:ln w="25560">
            <a:solidFill>
              <a:srgbClr val="fda4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ill G Hopkins</dc:creator>
  <dc:description/>
  <dc:language>en-US</dc:language>
  <cp:lastModifiedBy>Will G Hopkins</cp:lastModifiedBy>
  <cp:revision>0</cp:revision>
  <dc:subject>oral presentation skills</dc:subject>
  <dc:title>How to Give Talks</dc:title>
</cp:coreProperties>
</file>