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7C4AE-1BE6-4906-B9CA-A3F1643D5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8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How to Give Ta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46280" y="2244600"/>
            <a:ext cx="763596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7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G. Hop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Physiology and Physical Education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University of Otago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Dunedin, 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6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ll@deepsouth.co.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© 1996 W.G. Hopkins. Copying is permitted for individual nonprofit educational use on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089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28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rol the light pointer.  Use both hands to limit sha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use the blackboard or whiteboard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long intervals between slides, put the lights on, and turn off the projector or have a black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4520" y="20383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858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46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wo projectors are for exp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different media in series, not in parall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sure a video is ready to go with the touch of ONE but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190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the most of it - you usually get helpful sugg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pare answers for some questions.  Use a stooge to ask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extra slides r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thankful and polite - employers and reviewers may be in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520" y="1981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388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600" y="1758960"/>
            <a:ext cx="820404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35 mm or PowerPoint at confere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ke a backup copy of PowerPoint s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OHP transparencies only for local seminars and last-minute ideas o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nk si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BIG standard fo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a spelling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irrelevant slides of athle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1569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Sport vs science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685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79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460520"/>
            <a:ext cx="7932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tle:  include collaborators and fun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slides:  e.g. background, research question, methods, results, summ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waste a slide on the above 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relevant joke slide is 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w many slides?  Count on abo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1-2 minutes per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duplicate slides rather than back track to a previous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2520" y="542880"/>
            <a:ext cx="82947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bles an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8525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copy them 1:1 from a paper.  Enlarge or redr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a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dig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SDs, not S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</a:t>
            </a:r>
            <a:r>
              <a:rPr b="1" lang="en-US" sz="36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*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ather than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est statistics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, F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χ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16765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609480"/>
            <a:ext cx="7391520" cy="5772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7160" y="53352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87480" y="1622520"/>
            <a:ext cx="7108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sprint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end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2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6 ± 5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2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1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6 ± 7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3 ± 6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5 ± 4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80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7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3 ± 8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7 ± 8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 = 96-231.  Data are mean ± S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7160" y="21718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585792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9800" y="609480"/>
            <a:ext cx="706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thletes in sprint and endurance 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2400" y="938160"/>
            <a:ext cx="7061040" cy="424332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1622520"/>
            <a:ext cx="6375600" cy="1813320"/>
          </a:xfrm>
          <a:custGeom>
            <a:avLst/>
            <a:gdLst/>
            <a:ahLst/>
            <a:rect l="0" t="0" r="r" b="b"/>
            <a:pathLst>
              <a:path w="17710" h="5037">
                <a:moveTo>
                  <a:pt x="0" y="0"/>
                </a:moveTo>
                <a:lnTo>
                  <a:pt x="17710" y="0"/>
                </a:lnTo>
                <a:lnTo>
                  <a:pt x="17710" y="5037"/>
                </a:lnTo>
                <a:lnTo>
                  <a:pt x="0" y="50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3360" y="1622520"/>
            <a:ext cx="5705640" cy="1825560"/>
            <a:chOff x="1503360" y="1622520"/>
            <a:chExt cx="5705640" cy="1825560"/>
          </a:xfrm>
        </p:grpSpPr>
        <p:sp>
          <p:nvSpPr>
            <p:cNvPr id="135" name=""/>
            <p:cNvSpPr/>
            <p:nvPr/>
          </p:nvSpPr>
          <p:spPr>
            <a:xfrm>
              <a:off x="1503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288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992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1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750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648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75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900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241452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184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8020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416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6214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2792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4204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531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7230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416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76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77368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943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2565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6868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9584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119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52140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5804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652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7020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9736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878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62292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2400" y="444600"/>
            <a:ext cx="7061040" cy="1001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4680" y="2979720"/>
            <a:ext cx="4037400" cy="341640"/>
          </a:xfrm>
          <a:custGeom>
            <a:avLst/>
            <a:gdLst/>
            <a:ahLst/>
            <a:rect l="0" t="0" r="r" b="b"/>
            <a:pathLst>
              <a:path w="11215" h="949">
                <a:moveTo>
                  <a:pt x="0" y="0"/>
                </a:moveTo>
                <a:lnTo>
                  <a:pt x="11215" y="0"/>
                </a:lnTo>
                <a:lnTo>
                  <a:pt x="11215" y="949"/>
                </a:lnTo>
                <a:lnTo>
                  <a:pt x="0" y="949"/>
                </a:lnTo>
                <a:lnTo>
                  <a:pt x="0" y="0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95760" y="2925720"/>
            <a:ext cx="140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8080" y="3498840"/>
            <a:ext cx="638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159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288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992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13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750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648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975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900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8120" y="36082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7324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843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9576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180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2908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405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9516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645000" y="40402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2400" y="4575240"/>
            <a:ext cx="7061040" cy="181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25520" y="4635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57360" y="4635360"/>
            <a:ext cx="272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map read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25520" y="4952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44760" y="495288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Peripheral vision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25520" y="5268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44760" y="5268960"/>
            <a:ext cx="343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Stroop color-wor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25520" y="55864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39720" y="558648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blood lactat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25520" y="590220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6376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87440" y="17985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65280" y="5902200"/>
            <a:ext cx="331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oxygen uptak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1160" y="552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tocol for study of cognitive function in orient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312920" y="16462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r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51272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graphs in preference to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the right kind of graph for th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bel individual lines or bars rather than use a k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ticks and numbers on 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LARGE symbols on plotted poi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ary symbol shape for the colorblin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49400" y="5846760"/>
            <a:ext cx="6777000" cy="628560"/>
            <a:chOff x="1049400" y="5846760"/>
            <a:chExt cx="6777000" cy="628560"/>
          </a:xfrm>
        </p:grpSpPr>
        <p:sp>
          <p:nvSpPr>
            <p:cNvPr id="208" name=""/>
            <p:cNvSpPr txBox="1"/>
            <p:nvPr/>
          </p:nvSpPr>
          <p:spPr>
            <a:xfrm>
              <a:off x="1049400" y="5846760"/>
              <a:ext cx="5460840" cy="6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his:                            Not this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89160" y="6067440"/>
              <a:ext cx="208080" cy="21096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148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0000" y="6067440"/>
              <a:ext cx="209520" cy="210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9520" y="6067440"/>
              <a:ext cx="209520" cy="210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4520" y="6067440"/>
              <a:ext cx="209520" cy="210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81880" y="6141960"/>
              <a:ext cx="109440" cy="109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9360" y="6141960"/>
              <a:ext cx="109440" cy="1094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5400" y="6141960"/>
              <a:ext cx="111240" cy="10944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6141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912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696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3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0512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iving a good talk is an essential skill for researchers and instru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want feedback on your data or ideas, so put them acros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erences are fun - if you give your talk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t’s all a game.  Learn the rules and you’ll enjoy it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68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04920"/>
            <a:ext cx="7543800" cy="6324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04920"/>
            <a:ext cx="754380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41904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ffect of drug or placebo on maximum oxygen uptake during 16 week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4680" y="398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49240" y="618480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4160" y="1760400"/>
            <a:ext cx="2876760" cy="3586680"/>
          </a:xfrm>
          <a:custGeom>
            <a:avLst/>
            <a:gdLst/>
            <a:ahLst/>
            <a:rect l="0" t="0" r="r" b="b"/>
            <a:pathLst>
              <a:path w="7991" h="9963">
                <a:moveTo>
                  <a:pt x="0" y="0"/>
                </a:moveTo>
                <a:lnTo>
                  <a:pt x="7991" y="0"/>
                </a:lnTo>
                <a:lnTo>
                  <a:pt x="7991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51006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27440" y="1760400"/>
            <a:ext cx="951120" cy="3586680"/>
          </a:xfrm>
          <a:custGeom>
            <a:avLst/>
            <a:gdLst/>
            <a:ahLst/>
            <a:rect l="0" t="0" r="r" b="b"/>
            <a:pathLst>
              <a:path w="2642" h="9963">
                <a:moveTo>
                  <a:pt x="0" y="0"/>
                </a:moveTo>
                <a:lnTo>
                  <a:pt x="2642" y="0"/>
                </a:lnTo>
                <a:lnTo>
                  <a:pt x="2642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41840" y="4259160"/>
            <a:ext cx="3812040" cy="433800"/>
          </a:xfrm>
          <a:custGeom>
            <a:avLst/>
            <a:gdLst/>
            <a:ahLst/>
            <a:rect l="0" t="0" r="r" b="b"/>
            <a:pathLst>
              <a:path fill="none" w="10589" h="1205">
                <a:moveTo>
                  <a:pt x="0" y="1205"/>
                </a:moveTo>
                <a:lnTo>
                  <a:pt x="2597" y="803"/>
                </a:lnTo>
                <a:lnTo>
                  <a:pt x="5275" y="834"/>
                </a:lnTo>
                <a:lnTo>
                  <a:pt x="7948" y="874"/>
                </a:lnTo>
                <a:lnTo>
                  <a:pt x="10589" y="0"/>
                </a:lnTo>
              </a:path>
            </a:pathLst>
          </a:custGeom>
          <a:ln w="12600">
            <a:solidFill>
              <a:srgbClr val="0088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12600">
            <a:solidFill>
              <a:srgbClr val="dd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14840" y="5530680"/>
            <a:ext cx="3825720" cy="128880"/>
            <a:chOff x="3714840" y="5530680"/>
            <a:chExt cx="3825720" cy="128880"/>
          </a:xfrm>
        </p:grpSpPr>
        <p:sp>
          <p:nvSpPr>
            <p:cNvPr id="234" name=""/>
            <p:cNvSpPr/>
            <p:nvPr/>
          </p:nvSpPr>
          <p:spPr>
            <a:xfrm>
              <a:off x="3714840" y="5530680"/>
              <a:ext cx="3813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05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786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932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641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148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5457960" y="258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927760" y="467532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386400" y="350028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42200" y="348156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679920" y="3917880"/>
            <a:ext cx="3900240" cy="1309680"/>
            <a:chOff x="3679920" y="3917880"/>
            <a:chExt cx="3900240" cy="1309680"/>
          </a:xfrm>
        </p:grpSpPr>
        <p:grpSp>
          <p:nvGrpSpPr>
            <p:cNvPr id="245" name=""/>
            <p:cNvGrpSpPr/>
            <p:nvPr/>
          </p:nvGrpSpPr>
          <p:grpSpPr>
            <a:xfrm>
              <a:off x="3679920" y="4730760"/>
              <a:ext cx="117360" cy="496800"/>
              <a:chOff x="3679920" y="4730760"/>
              <a:chExt cx="117360" cy="496800"/>
            </a:xfrm>
          </p:grpSpPr>
          <p:sp>
            <p:nvSpPr>
              <p:cNvPr id="246" name=""/>
              <p:cNvSpPr/>
              <p:nvPr/>
            </p:nvSpPr>
            <p:spPr>
              <a:xfrm>
                <a:off x="3745080" y="473076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679920" y="52275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741840" y="4259160"/>
              <a:ext cx="3812040" cy="433800"/>
            </a:xfrm>
            <a:custGeom>
              <a:avLst/>
              <a:gdLst/>
              <a:ahLst/>
              <a:rect l="0" t="0" r="r" b="b"/>
              <a:pathLst>
                <a:path fill="none" w="10589" h="1205">
                  <a:moveTo>
                    <a:pt x="0" y="1205"/>
                  </a:moveTo>
                  <a:lnTo>
                    <a:pt x="2597" y="803"/>
                  </a:lnTo>
                  <a:lnTo>
                    <a:pt x="5275" y="834"/>
                  </a:lnTo>
                  <a:lnTo>
                    <a:pt x="7948" y="874"/>
                  </a:lnTo>
                  <a:lnTo>
                    <a:pt x="10589" y="0"/>
                  </a:lnTo>
                </a:path>
              </a:pathLst>
            </a:custGeom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524640" y="3917880"/>
              <a:ext cx="119160" cy="641520"/>
              <a:chOff x="6524640" y="3917880"/>
              <a:chExt cx="119160" cy="641520"/>
            </a:xfrm>
          </p:grpSpPr>
          <p:sp>
            <p:nvSpPr>
              <p:cNvPr id="250" name=""/>
              <p:cNvSpPr/>
              <p:nvPr/>
            </p:nvSpPr>
            <p:spPr>
              <a:xfrm>
                <a:off x="6589800" y="3917880"/>
                <a:ext cx="0" cy="64152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24640" y="3917880"/>
                <a:ext cx="1191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99000" y="4651200"/>
              <a:ext cx="117360" cy="498600"/>
              <a:chOff x="4599000" y="4651200"/>
              <a:chExt cx="117360" cy="498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664160" y="465120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599000" y="514980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564160" y="4559400"/>
              <a:ext cx="115920" cy="498240"/>
              <a:chOff x="5564160" y="4559400"/>
              <a:chExt cx="115920" cy="49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629320" y="455940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564160" y="5057640"/>
                <a:ext cx="11592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462800" y="4245120"/>
              <a:ext cx="117360" cy="500040"/>
              <a:chOff x="7462800" y="4245120"/>
              <a:chExt cx="117360" cy="500040"/>
            </a:xfrm>
          </p:grpSpPr>
          <p:sp>
            <p:nvSpPr>
              <p:cNvPr id="259" name=""/>
              <p:cNvSpPr/>
              <p:nvPr/>
            </p:nvSpPr>
            <p:spPr>
              <a:xfrm>
                <a:off x="7527960" y="424512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462800" y="47451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3679920" y="3722760"/>
            <a:ext cx="117360" cy="642960"/>
            <a:chOff x="3679920" y="3722760"/>
            <a:chExt cx="117360" cy="642960"/>
          </a:xfrm>
        </p:grpSpPr>
        <p:sp>
          <p:nvSpPr>
            <p:cNvPr id="262" name=""/>
            <p:cNvSpPr/>
            <p:nvPr/>
          </p:nvSpPr>
          <p:spPr>
            <a:xfrm>
              <a:off x="3745080" y="3722760"/>
              <a:ext cx="0" cy="6429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79920" y="37227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25560">
            <a:solidFill>
              <a:srgbClr val="ff6699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513480" y="2467080"/>
            <a:ext cx="117360" cy="1035000"/>
            <a:chOff x="6513480" y="2467080"/>
            <a:chExt cx="117360" cy="1035000"/>
          </a:xfrm>
        </p:grpSpPr>
        <p:sp>
          <p:nvSpPr>
            <p:cNvPr id="266" name=""/>
            <p:cNvSpPr/>
            <p:nvPr/>
          </p:nvSpPr>
          <p:spPr>
            <a:xfrm>
              <a:off x="6578640" y="2467080"/>
              <a:ext cx="0" cy="1019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513480" y="35020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99000" y="3892680"/>
            <a:ext cx="117360" cy="641160"/>
            <a:chOff x="4599000" y="3892680"/>
            <a:chExt cx="117360" cy="641160"/>
          </a:xfrm>
        </p:grpSpPr>
        <p:sp>
          <p:nvSpPr>
            <p:cNvPr id="269" name=""/>
            <p:cNvSpPr/>
            <p:nvPr/>
          </p:nvSpPr>
          <p:spPr>
            <a:xfrm>
              <a:off x="4664160" y="3892680"/>
              <a:ext cx="0" cy="641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99000" y="38926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462800" y="2270160"/>
            <a:ext cx="117360" cy="681120"/>
            <a:chOff x="7462800" y="2270160"/>
            <a:chExt cx="117360" cy="681120"/>
          </a:xfrm>
        </p:grpSpPr>
        <p:sp>
          <p:nvSpPr>
            <p:cNvPr id="272" name=""/>
            <p:cNvSpPr/>
            <p:nvPr/>
          </p:nvSpPr>
          <p:spPr>
            <a:xfrm>
              <a:off x="7527960" y="227016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2800" y="22701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3749760" y="175896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16600" y="175572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ug or 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98680" y="1760400"/>
            <a:ext cx="130320" cy="3586320"/>
            <a:chOff x="3298680" y="1760400"/>
            <a:chExt cx="130320" cy="3586320"/>
          </a:xfrm>
        </p:grpSpPr>
        <p:sp>
          <p:nvSpPr>
            <p:cNvPr id="277" name=""/>
            <p:cNvSpPr/>
            <p:nvPr/>
          </p:nvSpPr>
          <p:spPr>
            <a:xfrm flipH="1">
              <a:off x="3298680" y="534672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298680" y="444168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98680" y="355284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298680" y="26496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298680" y="17604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1760400"/>
              <a:ext cx="0" cy="3586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2725560" y="157176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5560" y="33638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725560" y="515160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5431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37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44356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9604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24680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0840" y="606420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wee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7680" y="2760840"/>
            <a:ext cx="2649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ml.mi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kg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8240" y="460044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33920" y="44481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962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29680" y="41529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73880" y="3160800"/>
            <a:ext cx="115560" cy="681120"/>
            <a:chOff x="5573880" y="3160800"/>
            <a:chExt cx="115560" cy="681120"/>
          </a:xfrm>
        </p:grpSpPr>
        <p:sp>
          <p:nvSpPr>
            <p:cNvPr id="299" name=""/>
            <p:cNvSpPr/>
            <p:nvPr/>
          </p:nvSpPr>
          <p:spPr>
            <a:xfrm>
              <a:off x="5573880" y="3160800"/>
              <a:ext cx="1155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316080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37080" y="2347920"/>
            <a:ext cx="3993840" cy="2409840"/>
            <a:chOff x="3637080" y="2347920"/>
            <a:chExt cx="3993840" cy="2409840"/>
          </a:xfrm>
        </p:grpSpPr>
        <p:sp>
          <p:nvSpPr>
            <p:cNvPr id="302" name=""/>
            <p:cNvSpPr/>
            <p:nvPr/>
          </p:nvSpPr>
          <p:spPr>
            <a:xfrm>
              <a:off x="4573440" y="4548240"/>
              <a:ext cx="19512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7160" y="37879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35800" y="2909880"/>
              <a:ext cx="19512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7080" y="42721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6480" y="2347920"/>
              <a:ext cx="19368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57200"/>
            <a:ext cx="7391520" cy="6019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45720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30240" y="533520"/>
            <a:ext cx="722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ion time of novice and elite athletes in three phase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73520" y="5692680"/>
            <a:ext cx="262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ction time (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746440" y="5291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08840" y="2631960"/>
            <a:ext cx="960120" cy="157320"/>
            <a:chOff x="6108840" y="2631960"/>
            <a:chExt cx="960120" cy="157320"/>
          </a:xfrm>
        </p:grpSpPr>
        <p:sp>
          <p:nvSpPr>
            <p:cNvPr id="315" name=""/>
            <p:cNvSpPr/>
            <p:nvPr/>
          </p:nvSpPr>
          <p:spPr>
            <a:xfrm>
              <a:off x="6108840" y="2709720"/>
              <a:ext cx="96012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8960" y="2631960"/>
              <a:ext cx="0" cy="15732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982960" y="2543040"/>
            <a:ext cx="313704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24040" y="25131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77040" y="3060720"/>
            <a:ext cx="1049400" cy="157320"/>
            <a:chOff x="6377040" y="3060720"/>
            <a:chExt cx="1049400" cy="157320"/>
          </a:xfrm>
        </p:grpSpPr>
        <p:sp>
          <p:nvSpPr>
            <p:cNvPr id="320" name=""/>
            <p:cNvSpPr/>
            <p:nvPr/>
          </p:nvSpPr>
          <p:spPr>
            <a:xfrm>
              <a:off x="6377040" y="3139920"/>
              <a:ext cx="104940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6440" y="306072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982960" y="2971800"/>
            <a:ext cx="3416400" cy="3477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095560" y="295272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68840" y="4824360"/>
            <a:ext cx="569880" cy="157320"/>
            <a:chOff x="4668840" y="4824360"/>
            <a:chExt cx="569880" cy="157320"/>
          </a:xfrm>
        </p:grpSpPr>
        <p:sp>
          <p:nvSpPr>
            <p:cNvPr id="325" name=""/>
            <p:cNvSpPr/>
            <p:nvPr/>
          </p:nvSpPr>
          <p:spPr>
            <a:xfrm>
              <a:off x="4668840" y="4903920"/>
              <a:ext cx="56988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38720" y="482436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 txBox="1"/>
          <p:nvPr/>
        </p:nvSpPr>
        <p:spPr>
          <a:xfrm>
            <a:off x="2095560" y="469440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2960" y="4724280"/>
            <a:ext cx="1708200" cy="345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29400" y="2201760"/>
            <a:ext cx="971280" cy="157320"/>
            <a:chOff x="5729400" y="2201760"/>
            <a:chExt cx="971280" cy="157320"/>
          </a:xfrm>
        </p:grpSpPr>
        <p:sp>
          <p:nvSpPr>
            <p:cNvPr id="330" name=""/>
            <p:cNvSpPr/>
            <p:nvPr/>
          </p:nvSpPr>
          <p:spPr>
            <a:xfrm>
              <a:off x="5729400" y="2281320"/>
              <a:ext cx="9712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0680" y="2201760"/>
              <a:ext cx="0" cy="1573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1276200" y="210168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2960" y="2112840"/>
            <a:ext cx="281304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76840" y="3946680"/>
            <a:ext cx="568080" cy="156960"/>
            <a:chOff x="3876840" y="3946680"/>
            <a:chExt cx="568080" cy="156960"/>
          </a:xfrm>
        </p:grpSpPr>
        <p:sp>
          <p:nvSpPr>
            <p:cNvPr id="335" name=""/>
            <p:cNvSpPr/>
            <p:nvPr/>
          </p:nvSpPr>
          <p:spPr>
            <a:xfrm>
              <a:off x="3876840" y="4025880"/>
              <a:ext cx="5680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44920" y="3946680"/>
              <a:ext cx="0" cy="15696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>
            <a:off x="1276200" y="381636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3857760"/>
            <a:ext cx="89388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675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294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243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764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760840" y="5186520"/>
            <a:ext cx="45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58308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89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4133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3295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465800" y="3797280"/>
            <a:ext cx="392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27280" y="3370320"/>
            <a:ext cx="318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968560" y="1736640"/>
            <a:ext cx="9558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novi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8560" y="3481560"/>
            <a:ext cx="673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eli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333520" y="404640"/>
            <a:ext cx="27612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836960" y="4376880"/>
            <a:ext cx="679680" cy="156960"/>
            <a:chOff x="4836960" y="4376880"/>
            <a:chExt cx="679680" cy="156960"/>
          </a:xfrm>
        </p:grpSpPr>
        <p:sp>
          <p:nvSpPr>
            <p:cNvPr id="355" name=""/>
            <p:cNvSpPr/>
            <p:nvPr/>
          </p:nvSpPr>
          <p:spPr>
            <a:xfrm>
              <a:off x="4836960" y="4454640"/>
              <a:ext cx="67968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16640" y="4376880"/>
              <a:ext cx="0" cy="15696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1724040" y="42465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2960" y="4287960"/>
            <a:ext cx="186516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39960" y="605484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the Aud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0764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re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snigger at foolish spe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annoy your neighb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your questions pithy, and don’t show off TOO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k a simple question:  the answer will help other people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4520" y="18097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380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St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992240"/>
            <a:ext cx="7772400" cy="47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hardware before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et the speakers and arrange a signal to let them know when time i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e yourself and the sess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ame the speaker and read the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ulogize the big sh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y when questions can be as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x any problems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4520" y="18288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326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3967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204624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arn speakers when time is nearly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ad the appla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ite questions if time permits, or ask people to meet the speaker afterwar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a question ready in case no-one asks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the session with thanks to the speakers and lead more appla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 Conclu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obsessional!  Give it your best sh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creative - break the rules some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it help get the message acr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Yes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rop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9605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12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opics in This Pres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0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1778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8000" y="189000"/>
            <a:ext cx="8369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99cc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8880" y="1496880"/>
            <a:ext cx="8258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int a big picture first, then zoom in on your little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ess by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, not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know more about the topic than most of the audience.  Get down to their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jargon, be colloquial, but be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hort relevant joke is great.  Anything else is tedi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apolog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520" y="13017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Down Under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9280" y="228600"/>
            <a:ext cx="7689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70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pa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3200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hear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at your slides are in the right order and ori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controls for the lights and proj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p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e po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520" y="20034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790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2222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lax… Who will care in 100 years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out the title if the chair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rivial opening remarks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on wit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the talk verbatim!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 lib it from notes of the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520" y="1994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2076480"/>
            <a:ext cx="811548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ak slowly, loudly, cle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your mouth near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facing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eye contact with as many people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verbal or postural mannerisms that distract or ann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9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7280" y="1833480"/>
            <a:ext cx="807732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long quotes on a slide, and don’t read them out verbat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oint to detail on a slide as you expla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Explain the ax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of a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go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finish with “any question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with “thank you.”  Then flick up a black slide, especially with Power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520" y="16574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 G Hopkins</dc:creator>
  <dc:description/>
  <dc:language>en-US</dc:language>
  <cp:lastModifiedBy>Will G Hopkins</cp:lastModifiedBy>
  <cp:revision>0</cp:revision>
  <dc:subject>oral presentation skills</dc:subject>
  <dc:title>How to Give Talks</dc:title>
</cp:coreProperties>
</file>